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9C03-C747-452F-BF1E-9868AB29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EDE1-050A-40F7-A10D-B2AEB9A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60F1-FA25-4BA1-AB63-B829BC1E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1161-72B6-4A9C-AF19-223C5464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F47-C678-4AAE-950A-0625970F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511F-0715-490C-8F8F-B543FA0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55B1-A541-4359-90F2-31923073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8D09-F143-4482-BEF2-97C838BD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8E90-F026-42CE-8D59-F11A025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BE5C-24A0-449C-BEDB-5497AD3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F9C9-2E34-415A-950D-4F831960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DCEC-CEC6-429F-BBCB-41405F1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DC19-AB96-4CA1-B753-289D3D8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8E3F-F200-42A0-9DFD-DBACE3A5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99F9-21CF-4B0C-A49A-9CE9592B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E3E6-BB17-4E9B-99DA-53AB166A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6960-20A0-4B72-BD97-8296D5F4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21E0-2845-435C-906F-5A1C6D10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C12A-4403-4AB0-B400-F9DDDC9A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82DF-7C05-413C-957F-402A008A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77AE-198E-4066-982B-2FFC1F1B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9F9F-3FC4-42A1-97EC-56BAFA9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4E8D-1AFD-4A9B-B345-6C7445A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B56A-61D0-4409-9694-C021BF97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B85-C618-403F-A8AE-C1E640E633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AF95-39D4-4716-B15D-87048134F7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P US History 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8 had haciendas and miss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4" descr="hacienda"/>
          <p:cNvPicPr/>
          <p:nvPr/>
        </p:nvPicPr>
        <p:blipFill>
          <a:blip r:embed="rId1"/>
          <a:stretch/>
        </p:blipFill>
        <p:spPr>
          <a:xfrm>
            <a:off x="685800" y="1371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hoto of CALIFORNIA MISSION. &#13;&#10;Santa Barbara Mission."/>
          <p:cNvPicPr/>
          <p:nvPr/>
        </p:nvPicPr>
        <p:blipFill>
          <a:blip r:embed="rId2"/>
          <a:stretch/>
        </p:blipFill>
        <p:spPr>
          <a:xfrm>
            <a:off x="4495680" y="3513240"/>
            <a:ext cx="426744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9 which country is associated with the founding of..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troi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Pittsburgh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10 had an encomienda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4" descr="encomienda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each question…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dentify whether it was the SPANISH, the FRENCH, or BOTH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1 built for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Photo of FRENCH: FORT CAROLINE, 1591. &#13;&#10;Plan of Fort Caroline on the St Johns River, built by the second French expedition to Florida in 1564: colored engraving, 1591, by Theodor de Bry after a now lost drawing by Jacques Le Moyne de Morgues."/>
          <p:cNvPicPr/>
          <p:nvPr/>
        </p:nvPicPr>
        <p:blipFill>
          <a:blip r:embed="rId1"/>
          <a:stretch/>
        </p:blipFill>
        <p:spPr>
          <a:xfrm>
            <a:off x="1523880" y="1219320"/>
            <a:ext cx="6400800" cy="54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2 converted Natives to Catholic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9" descr="Father_marquette_preaching"/>
          <p:cNvPicPr/>
          <p:nvPr/>
        </p:nvPicPr>
        <p:blipFill>
          <a:blip r:embed="rId1"/>
          <a:stretch/>
        </p:blipFill>
        <p:spPr>
          <a:xfrm>
            <a:off x="2133720" y="1752480"/>
            <a:ext cx="475596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3 looking for gold and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000489060"/>
          <p:cNvPicPr/>
          <p:nvPr/>
        </p:nvPicPr>
        <p:blipFill>
          <a:blip r:embed="rId1"/>
          <a:stretch/>
        </p:blipFill>
        <p:spPr>
          <a:xfrm>
            <a:off x="2819520" y="1523880"/>
            <a:ext cx="34066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4 smallpox they brought killed 90% of the n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4" descr="Photo of AZTEC: SMALLPOX, 16th C. &#13;&#10;Aztec Indians, with smallpox contracted from the Spaniards, ministered to by a medicine man: illlustration from Father Bernardino de Sahagun's 16th century treatise, General History of the Things of New Spain."/>
          <p:cNvPicPr/>
          <p:nvPr/>
        </p:nvPicPr>
        <p:blipFill>
          <a:blip r:embed="rId1"/>
          <a:stretch/>
        </p:blipFill>
        <p:spPr>
          <a:xfrm>
            <a:off x="1676520" y="1612800"/>
            <a:ext cx="617220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5 primarily engaged in th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r tra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4" descr="Photo of CANADA: FUR TRADERS, 1777. &#13;&#10;Fur traders and Indians. Engraving after a detail from Gauthier and Faden's 'Map of Canada,' 1777."/>
          <p:cNvPicPr/>
          <p:nvPr/>
        </p:nvPicPr>
        <p:blipFill>
          <a:blip r:embed="rId1"/>
          <a:stretch/>
        </p:blipFill>
        <p:spPr>
          <a:xfrm>
            <a:off x="1066680" y="1828800"/>
            <a:ext cx="678204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6 intermarried with the n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4" descr="Photo of LA SALLE CLAIMING LOUISIANA &#13;&#10;for France, April 9, 1682. Oil on canvas, 1847, by George Catlin.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#7 used local waterways with little settlement in c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0301_011201"/>
          <p:cNvPicPr/>
          <p:nvPr/>
        </p:nvPicPr>
        <p:blipFill>
          <a:blip r:embed="rId1"/>
          <a:stretch/>
        </p:blipFill>
        <p:spPr>
          <a:xfrm>
            <a:off x="1828800" y="1535040"/>
            <a:ext cx="6172200" cy="532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3:07:53Z</dcterms:created>
  <dc:creator>teacher</dc:creator>
  <dc:description/>
  <dc:language>en-US</dc:language>
  <cp:lastModifiedBy>Sacerdote, Kevin R.</cp:lastModifiedBy>
  <dcterms:modified xsi:type="dcterms:W3CDTF">2017-08-10T18:19:56Z</dcterms:modified>
  <cp:revision>5</cp:revision>
  <dc:subject/>
  <dc:title>AP US History  Bell-ringer</dc:title>
</cp:coreProperties>
</file>